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15C-185F-4C6A-9F09-AD8A8C4B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539-8AB9-4409-8178-D94F8CF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F01-39B9-41F8-9847-E5AEA1BF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D55-C7A5-4568-8B98-81F334F9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090-12A8-487F-9A0A-1DEB1A3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669-1D55-404F-8092-C1233FEF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879-FC04-4014-9CD3-9E8668D8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D57-87CD-4212-A395-64ACDF00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D20-5397-49D1-8577-9ADAE29D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A22-AAA0-4316-A4E8-D9B93B5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0A2-3143-4BF5-97A8-7F1F89C3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344-8887-49CB-BA2D-8B633BEE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F26B8-BBB4-45ED-AF8D-E8D50D07862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C7C51-F90C-476B-8A93-C7D396EF35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avages vs Civilized….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ou Decide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9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Painting their faces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10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Keeping a rescue fire going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1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Killed the pig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2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alibri"/>
              </a:rPr>
              <a:t>creating rules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3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ssigning role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4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x0016_… 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Punching piggy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5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100" spc="-1" strike="noStrike">
                <a:solidFill>
                  <a:srgbClr val="ffffff"/>
                </a:solidFill>
                <a:latin typeface="Calibri"/>
              </a:rPr>
              <a:t>Building Shelters</a:t>
            </a: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6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Having an election for a leader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7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hunting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8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100" spc="-1" strike="noStrike">
                <a:solidFill>
                  <a:srgbClr val="ffffff"/>
                </a:solidFill>
                <a:latin typeface="Calibri"/>
              </a:rPr>
              <a:t>Using the conch to call meetings</a:t>
            </a: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5:59:44Z</dcterms:created>
  <dc:creator>Teacher</dc:creator>
  <dc:description/>
  <dc:language>en-US</dc:language>
  <cp:lastModifiedBy>Teacher</cp:lastModifiedBy>
  <dcterms:modified xsi:type="dcterms:W3CDTF">2012-04-01T16:17:05Z</dcterms:modified>
  <cp:revision>10</cp:revision>
  <dc:subject/>
  <dc:title>Savages vs Civilized…..  You Decide!</dc:title>
</cp:coreProperties>
</file>